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AA21-4202-4224-89A1-822589242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2990-2FA9-404D-8584-DF464595C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04F9-46AB-42CC-93E7-0D18E2A44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E9F7-FB11-471E-AA53-DAF1672F3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7E87B-7262-449C-82B2-11C93F122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826D9-9B08-4451-8FED-92248BE76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62E9B-E51D-4FE6-9ECD-C63508DBC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A6EA1-800B-45C0-9F81-9D3EA8E46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7F49C-EB56-4F41-AEF1-7DE2AE400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8BBC1-43AA-4F1D-9F1D-D4E23D5D9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B6B96-39CA-4E8C-8B96-A44D5C8F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8940-8933-4FAF-BB85-254D5E52D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D3414-AFE9-486B-AE68-D3B25CA5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CC6E8-7B4E-486E-BBB7-9EAAD9D6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29872-65B9-4ADE-A69B-D058BCE1B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54116-A6A1-4426-AB67-4C8C3F6C5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772CE-4B64-41AF-B645-68CBB9BCA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6371-3F77-4685-8382-D76D36376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684F-47B9-46AB-B5C2-8E435D593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0D52-2BC8-4706-96EE-C42471FC4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5355-D83B-4242-9E52-C82F6247E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273A-641B-48B7-9B38-E286ED98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4A52-60B6-461B-AC71-CB94347A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8E35-F821-40D9-8046-C71B15A8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79CE7-62A1-4382-8D30-7C3F4941CB0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86327-CA4D-4FE4-B97D-021A2C122C9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Internet Search Technique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Finding What You’re Looking For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irst, Ask a Question . . 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Search Ques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reating a good search question is half the batt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ypes of question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pecific: you want the answer to a specific ques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pen-ended: you want to find out all you can on a specific subjec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es of Search Too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arch engi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rector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ta-search engi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ther resour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arch Engin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Web page that finds other Web pag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us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nter a keyword or search expression and click a butt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view search resul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desired, refine the sear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oolean Operato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system of logical operators that allow you to specify relationships between search wor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us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 AND to find all search term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 OR to find either search ter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 NOT to eliminate some portion of search results for the keywor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rector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list of hyperlinks organized into categor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us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ick on the category link to display links within the categor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tinue to click more specific links until you locate the subject of your sear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eta-Search Engin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arch tools that submit a search to more than one engine at a tim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us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nter a keyword or search express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pecify which search engines to u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view search results from each engin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3T19:52:00Z</dcterms:created>
  <dc:creator>Cat Skintik</dc:creator>
  <dc:description/>
  <dc:language>en-US</dc:language>
  <cp:lastModifiedBy>Julie Hotchkiss</cp:lastModifiedBy>
  <dcterms:modified xsi:type="dcterms:W3CDTF">2004-09-23T11:48:19Z</dcterms:modified>
  <cp:revision>7</cp:revision>
  <dc:subject/>
  <dc:title>Internet Searching Techniques</dc:title>
</cp:coreProperties>
</file>